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  <p:sldId id="275" r:id="rId53"/>
    <p:sldId id="276" r:id="rId54"/>
    <p:sldId id="277" r:id="rId55"/>
    <p:sldId id="278" r:id="rId56"/>
    <p:sldId id="279" r:id="rId57"/>
    <p:sldId id="280" r:id="rId58"/>
    <p:sldId id="281" r:id="rId59"/>
    <p:sldId id="282" r:id="rId60"/>
    <p:sldId id="283" r:id="rId61"/>
    <p:sldId id="284" r:id="rId62"/>
    <p:sldId id="285" r:id="rId63"/>
    <p:sldId id="286" r:id="rId64"/>
    <p:sldId id="287" r:id="rId65"/>
    <p:sldId id="288" r:id="rId66"/>
    <p:sldId id="289" r:id="rId67"/>
    <p:sldId id="290" r:id="rId68"/>
    <p:sldId id="291" r:id="rId69"/>
    <p:sldId id="292" r:id="rId7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slide" Target="slides/slide20.xml"/><Relationship Id="rId54" Type="http://schemas.openxmlformats.org/officeDocument/2006/relationships/slide" Target="slides/slide21.xml"/><Relationship Id="rId55" Type="http://schemas.openxmlformats.org/officeDocument/2006/relationships/slide" Target="slides/slide22.xml"/><Relationship Id="rId56" Type="http://schemas.openxmlformats.org/officeDocument/2006/relationships/slide" Target="slides/slide23.xml"/><Relationship Id="rId57" Type="http://schemas.openxmlformats.org/officeDocument/2006/relationships/slide" Target="slides/slide24.xml"/><Relationship Id="rId58" Type="http://schemas.openxmlformats.org/officeDocument/2006/relationships/slide" Target="slides/slide25.xml"/><Relationship Id="rId59" Type="http://schemas.openxmlformats.org/officeDocument/2006/relationships/slide" Target="slides/slide26.xml"/><Relationship Id="rId60" Type="http://schemas.openxmlformats.org/officeDocument/2006/relationships/slide" Target="slides/slide27.xml"/><Relationship Id="rId61" Type="http://schemas.openxmlformats.org/officeDocument/2006/relationships/slide" Target="slides/slide28.xml"/><Relationship Id="rId62" Type="http://schemas.openxmlformats.org/officeDocument/2006/relationships/slide" Target="slides/slide29.xml"/><Relationship Id="rId63" Type="http://schemas.openxmlformats.org/officeDocument/2006/relationships/slide" Target="slides/slide30.xml"/><Relationship Id="rId64" Type="http://schemas.openxmlformats.org/officeDocument/2006/relationships/slide" Target="slides/slide31.xml"/><Relationship Id="rId65" Type="http://schemas.openxmlformats.org/officeDocument/2006/relationships/slide" Target="slides/slide32.xml"/><Relationship Id="rId66" Type="http://schemas.openxmlformats.org/officeDocument/2006/relationships/slide" Target="slides/slide33.xml"/><Relationship Id="rId67" Type="http://schemas.openxmlformats.org/officeDocument/2006/relationships/slide" Target="slides/slide34.xml"/><Relationship Id="rId68" Type="http://schemas.openxmlformats.org/officeDocument/2006/relationships/slide" Target="slides/slide35.xml"/><Relationship Id="rId69" Type="http://schemas.openxmlformats.org/officeDocument/2006/relationships/slide" Target="slides/slide36.xml"/><Relationship Id="rId70" Type="http://schemas.openxmlformats.org/officeDocument/2006/relationships/slide" Target="slides/slide3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dt" idx="7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237B0C-66BA-436D-8FA1-56F89D50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46F3AE-FCC4-4875-B284-D666D52D869D}" type="slidenum">
              <a:rPr b="0" lang="en-US" sz="1200" spc="-1" strike="noStrike">
                <a:solidFill>
                  <a:srgbClr val="958d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23B-BA43-4FBC-8030-FECC839B4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3C3-7994-4321-BC74-02C12310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BBB8-1E48-4154-B3F1-ABCD588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0C6-B68B-47B5-BBD0-F144C4DBD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64A7-A592-4701-9A9A-653D8B9D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B3AA-BBD3-42FB-AC92-6560984E3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0D21-3604-49A8-B8AA-21F88FC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5302-760C-4BE2-99EC-4A97EC03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DDA7-C6EA-405D-A214-A5796CBD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22B9-83C1-43A1-9959-2F1EE7B03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E506-A0F9-44C0-89E5-6A2AA85A9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D74-F4F7-4DF3-96F4-B98736CE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2FA24-36B1-4E81-877E-D4A053F6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AEC3E-4199-42CA-9C55-A285411F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8161-13FD-4039-834E-9FDFDBD8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23A2-5685-44A6-B0BA-274A298E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BD59-FD54-48D8-AD01-23C7E835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C0C5-4C2A-4E3C-9C72-51AF479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7F3B-F627-4F9C-864C-30811CDA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75E44-858F-462A-8926-D747A30E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355C-B354-4621-AF70-A45D911B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EFAA-653F-499F-8CCE-97DCF503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69FC-6E6C-49B1-8CE3-3F6E8CE34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C8B8-271E-4DBD-93A7-FF5990780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1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60" name="Picture 5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C208D07-4AA7-477D-9EE8-DF9E419A259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EF54C84F-EDA2-4BBB-8391-0C28EB8F6D51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3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1C51AC23-5A14-4FF0-9D6B-A3802D9AE34D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D578CE5B-4D06-4E84-8231-3D189C2E81B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1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260BDA54-9986-42CA-AE1C-1AAB5F754A7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5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-76320" y="457200"/>
            <a:ext cx="9296640" cy="53352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5004E834-8FBE-46F1-BC96-F6D009FFFB1A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598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07279C72-6C93-4630-B9E3-3AABE3D62355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36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11B6D68F-0417-4D7B-94A8-CA8964B5CAC9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6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67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014E826-E0FB-411F-8A39-7DBB58061D33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1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1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5daa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4"/>
          <p:cNvSpPr/>
          <p:nvPr/>
        </p:nvSpPr>
        <p:spPr>
          <a:xfrm>
            <a:off x="7086600" y="6477120"/>
            <a:ext cx="1600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 |  </a:t>
            </a:r>
            <a:fld id="{9FCC34FB-56C1-4850-9B00-F251AE48AA2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3B628EB-362A-453B-9AF6-EA396E94DBF0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5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246c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7D6539F-4B88-4F01-A4F9-B206228CF6F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9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79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009999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612A4293-5FB3-47C8-9BC9-3AE47F59B4A6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3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-152280" y="2666880"/>
            <a:ext cx="9524880" cy="1600200"/>
          </a:xfrm>
          <a:prstGeom prst="rect">
            <a:avLst/>
          </a:prstGeom>
          <a:solidFill>
            <a:srgbClr val="ff7600"/>
          </a:solidFill>
          <a:ln w="0">
            <a:noFill/>
          </a:ln>
          <a:effectLst>
            <a:outerShdw dist="61200" dir="5400000" blurRad="0" rotWithShape="0">
              <a:srgbClr val="80808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A48B6B77-4F7B-43EA-A49B-77234DECBF4F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874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875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800">
            <a:solidFill>
              <a:srgbClr val="958d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0D151C9E-4BFB-4735-BEAB-015E6DDDCC2C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13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14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260C-8DCB-4B33-87D4-A97C0127D3A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958d8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958d8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958d85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58d85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958d85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958d85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958d85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958d85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958d85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958d85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958d8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2B37887D-4B78-40EB-8C8C-B8A5C739403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956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A9AC-D076-4BA3-BD80-B8A79C97A8DB}" type="slidenum">
              <a:rPr b="0" lang="bg-BG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85800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990720"/>
            <a:ext cx="2514600" cy="168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85800" y="3078000"/>
            <a:ext cx="3405240" cy="70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Picture 1" descr=""/>
          <p:cNvPicPr/>
          <p:nvPr/>
        </p:nvPicPr>
        <p:blipFill>
          <a:blip r:embed="rId3"/>
          <a:stretch/>
        </p:blipFill>
        <p:spPr>
          <a:xfrm>
            <a:off x="5181480" y="2719440"/>
            <a:ext cx="3405240" cy="7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2"/>
          <p:cNvSpPr/>
          <p:nvPr/>
        </p:nvSpPr>
        <p:spPr>
          <a:xfrm>
            <a:off x="7162920" y="6477120"/>
            <a:ext cx="1523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TITLE |  </a:t>
            </a:r>
            <a:fld id="{B5DA8641-F37E-44BD-B169-F2CA938F95C4}" type="slidenum">
              <a:rPr b="0" lang="en-US" sz="900" spc="-1" strike="noStrike">
                <a:solidFill>
                  <a:srgbClr val="bcbdc0"/>
                </a:solidFill>
                <a:latin typeface="Arial Narrow"/>
              </a:rPr>
              <a:t>&lt;number&gt;</a:t>
            </a:fld>
            <a:r>
              <a:rPr b="0" lang="en-US" sz="900" spc="-1" strike="noStrike">
                <a:solidFill>
                  <a:srgbClr val="bcbdc0"/>
                </a:solidFill>
                <a:latin typeface="Arial Narrow"/>
              </a:rPr>
              <a:t>  </a:t>
            </a:r>
            <a:endParaRPr b="0" lang="en-US" sz="9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457200" y="6299280"/>
            <a:ext cx="89532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5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3314880" y="2585880"/>
            <a:ext cx="2514600" cy="1686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Picture 2" descr="G:\1_work\work\rotary\T1516-EN_BG.png"/>
          <p:cNvPicPr/>
          <p:nvPr/>
        </p:nvPicPr>
        <p:blipFill>
          <a:blip r:embed="rId3"/>
          <a:stretch/>
        </p:blipFill>
        <p:spPr>
          <a:xfrm>
            <a:off x="6248520" y="4876920"/>
            <a:ext cx="2514600" cy="1685880"/>
          </a:xfrm>
          <a:prstGeom prst="rect">
            <a:avLst/>
          </a:prstGeom>
          <a:ln w="0">
            <a:noFill/>
          </a:ln>
        </p:spPr>
      </p:pic>
      <p:pic>
        <p:nvPicPr>
          <p:cNvPr id="1183" name="Picture 2" descr=""/>
          <p:cNvPicPr/>
          <p:nvPr/>
        </p:nvPicPr>
        <p:blipFill>
          <a:blip r:embed="rId4"/>
          <a:srcRect l="0" t="0" r="60785" b="0"/>
          <a:stretch/>
        </p:blipFill>
        <p:spPr>
          <a:xfrm>
            <a:off x="6651720" y="469800"/>
            <a:ext cx="17082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55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195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96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37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5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278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5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2"/>
          <a:stretch/>
        </p:blipFill>
        <p:spPr>
          <a:xfrm>
            <a:off x="458640" y="6165720"/>
            <a:ext cx="1216080" cy="457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"/>
          <p:cNvPicPr/>
          <p:nvPr/>
        </p:nvPicPr>
        <p:blipFill>
          <a:blip r:embed="rId3"/>
          <a:stretch/>
        </p:blipFill>
        <p:spPr>
          <a:xfrm>
            <a:off x="5562720" y="152280"/>
            <a:ext cx="3124080" cy="3124440"/>
          </a:xfrm>
          <a:prstGeom prst="rect">
            <a:avLst/>
          </a:prstGeom>
          <a:ln w="0">
            <a:noFill/>
          </a:ln>
        </p:spPr>
      </p:pic>
      <p:sp>
        <p:nvSpPr>
          <p:cNvPr id="318" name="TextBox 1"/>
          <p:cNvSpPr/>
          <p:nvPr/>
        </p:nvSpPr>
        <p:spPr>
          <a:xfrm>
            <a:off x="2314080" y="601560"/>
            <a:ext cx="3282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Година 2015-2016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Президент РИ: К.Р. Равиндран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Г: Нина Митева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8585a"/>
                </a:solidFill>
                <a:latin typeface="Georgia"/>
                <a:ea typeface="MS PGothic"/>
              </a:rPr>
              <a:t>Дистрикт 2482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319" name="Picture 2" descr="G:\1_work\work\rotary\T1516-EN_BG.png"/>
          <p:cNvPicPr/>
          <p:nvPr/>
        </p:nvPicPr>
        <p:blipFill>
          <a:blip r:embed="rId4"/>
          <a:stretch/>
        </p:blipFill>
        <p:spPr>
          <a:xfrm>
            <a:off x="525600" y="522360"/>
            <a:ext cx="1611000" cy="107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7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8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8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5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2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</p:txBody>
      </p:sp>
      <p:sp>
        <p:nvSpPr>
          <p:cNvPr id="1228" name="Rectangle 10"/>
          <p:cNvSpPr/>
          <p:nvPr/>
        </p:nvSpPr>
        <p:spPr>
          <a:xfrm>
            <a:off x="685800" y="32004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Работа с медиите. Практически съвети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4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Паола Хюсеин, редактори култура и оживление, в-к 24 часа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Елена Брайкова, </a:t>
            </a:r>
            <a:r>
              <a:rPr b="0" lang="ru-RU" sz="2000" spc="-1" strike="noStrike">
                <a:solidFill>
                  <a:srgbClr val="01b4e7"/>
                </a:solidFill>
                <a:latin typeface="Verdana"/>
              </a:rPr>
              <a:t>Старши Акаунт мениджър и Връзки с институции, </a:t>
            </a:r>
            <a:r>
              <a:rPr b="0" lang="bg-BG" sz="2000" spc="-1" strike="noStrike">
                <a:solidFill>
                  <a:srgbClr val="01b4e7"/>
                </a:solidFill>
                <a:latin typeface="Verdana"/>
              </a:rPr>
              <a:t>Юнайтед Партнърс</a:t>
            </a: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4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 иска информацията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914400" y="335232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Кратко, точно, ясно!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ИЗ "УПРАЖНЕНИЯ ПО СТИЛ"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РЕЙМОН КЬОНО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 автобус по южната линия в един от натоварените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часове. Тип на двадесет и шест години - мека шапка с шнур, заместващ панделката; прекалено дълъг врат, сякаш са го разтягали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Хората слизат. Въпросният тип се сърди на един съсед. Упреква го, че го блъска всеки път, щом мине някой. Хленчещ тон, а му се иска да е зъл. Като вижда едно свободно място, се спуска към него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ва часа по-късно го срещам отново - на Римския площад, пред гара Сен Лазар. Той е с един приятел, който му казва: "Ще трябва да сложиш още едно копче на сакото си". Обяснява му къде (на скъсаното място) и защо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АНОТАЦИЯ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243000" y="8377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Гъстонаселено се автотранспортирах в общоизвестното южнопарижко направление и се самоозовах близкостоящ до един дълговрат плетеноширитен дръжмишапковец. Гореописания трагикомично слаботелесен нехранимайко с плиткодънна многозначителност умопомрачи едикой си с долуказаното: "Както целенасочено своеволничите, вие злоупотребявате с телосложението ми нееднократно!"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животрептящото си словоизлияние преждеговорившия правостоящ скорострелно се облагодетелствува от една обезлюдила се междувременно едноместна автоседалка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двучасово времетраене мимоходом го лицезрях да площадосенлазарствува с един гологлав доброжелател, който нравоучително и чистосърдечно празнословеше: "Целесъобразно е да прекомплектоваш по-благоразумно полушубката си!" И умозаключително изсладкодумничи причиноследствената взаимовръзка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СЛОЖНОДУМН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След като пуснах корени от чакане под цъфналия слънчоглед, аз се ашладисах на една тиквичка по пътя за Чам дере. Там се натъкнах на избуяла кратуна, чийто лимоненожълт плод стърчеше с увита около него лиана. Този ми ти пъпеш наряза като краставица един репон, който му тъпчел лехите и му газел лука.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Но за да не вади кестените от огъня, той си обра крушите и се насади в един парцел за лично ползуване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-късно го видях пред Женския пазар, направен на бъзе и коприва, защото имаше на палтото си нещо, което не беше цвете за мирисан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4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БОТАНИЧЕСКИ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7002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Иска да научи повече от това, което му поднасяте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отличен изследовател;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Бързо “влиза в ритъм” по отношение на дадената информация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Разработва и използва различни източници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Пише при определен краен срок;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 - Е само един журналист в контекста на цялостния процес по публикация на материали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Всеки добър журналист: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1860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Много от хората в тази професия са и си остават идеалист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Настроени са срещу бизнеса, срещу печалбата, срещу властит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по принцип са цинично настрое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Те са самовлюбени, с предразсъдъци, субективност, и са свръхчувствителни на тема състезание с колегите с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Работят много часове, имат кратки крайни срокове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Журналистите често работят сам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 - Професията им не поощрява екипен дух в корпоративен стил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Са хора, като всички останали!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Но имайте предвид, че...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Придържайки се към </a:t>
            </a:r>
            <a:r>
              <a:rPr b="1" lang="ru-RU" sz="2400" spc="-1" strike="noStrike">
                <a:solidFill>
                  <a:srgbClr val="00b0f0"/>
                </a:solidFill>
                <a:latin typeface="Verdana"/>
              </a:rPr>
              <a:t>четиристранния тест </a:t>
            </a:r>
            <a:r>
              <a:rPr b="1" lang="ru-RU" sz="2400" spc="-1" strike="noStrike">
                <a:solidFill>
                  <a:srgbClr val="958d85"/>
                </a:solidFill>
                <a:latin typeface="Verdana"/>
              </a:rPr>
              <a:t>за онова което мислим, говорим или правим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1.Това ли е истинат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2.Справедливо ли е спрямо всички, които засяг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3.Ще създаде ли това добронамереност и по-добри приятелства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58d85"/>
                </a:solidFill>
                <a:latin typeface="Verdana"/>
              </a:rPr>
              <a:t>4.Ще бъде ли от полза за всички, които засяга?</a:t>
            </a:r>
            <a:br>
              <a:rPr sz="2400"/>
            </a:br>
            <a:endParaRPr b="0" lang="en-US" sz="2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Затова се отнасяйте с тях,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28240" y="1447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даването на информацията често е не по-малко важно от съдържанието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 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майте отлични познания по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верени и вдъхвайте респек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Избягвайте поведение на арогантност / превес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Бъдете учтиви, дръжте се приятно през цялото врем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оменяйте изказа според контекста на въпроси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авайте колкото се може по-прости и кратки комента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Придържайте се към темата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Сведете до минимум техническия жарго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- Демонстрирайте спокойствие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то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ставяйте “да ви хванат”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телно изслушвайте въпросите!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збягвайте спонтанни неуверени отговор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дръжте прекалено приятелс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се изказвайте лошо за трети стра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Не запълвайте ‘паузите’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риемете, че каквото казвате е “официално”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се опитвайте да поучавате или принизявате журналиста!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 изпадайте в словоизлияния!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  <a:ea typeface="Verdana"/>
              </a:rPr>
              <a:t>Lost in connection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18600" y="10666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ечатни или записани интервю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мнете, че каквото и да кажете, то ще бъде съкратено / редактира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ерете се, че има повече време / място за подробни обясн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Ако е на запис, опитайте се да формулирате кратки изречения, за да избегнете заблуждаващо редактиран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нтервюта на живо: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мате само една възможност – бъдете подготвени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икновено имате по-малко време (за по-малко думи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Шансът за обосновка е по-малък, отколкото при печатно интервю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дварително си подгответе кратки ключови послания!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стегнато и ясно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Говорен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авете визуален елемент към речта: жестове, движения, удар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Внимавайте за езика на тялото си: бъдете уверени, прями, позитив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пози като ръце на хълбоци или сключени зад гла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“бариери” в общуването, като обръщане на друга страна или скръстване на ръц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емонстрирайте интерес към нещата, които казва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нервни жестове с ръцете или поставянето им пред лицето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 всяко интервю, което давате: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нимавайте жестовете ви да са свободни, но контролирани, ако хората около вас са резервирани или нервни; избягвайте резки движения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Ако искате да “затоплите” атмосферата, стойте малко по-близо до другия (до интервюиращия)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Стремете се думите езикът на тялото ви да съвпадат, иначе ще изглеждате неискрен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смихвайте се – уверените хора рядко гледат строго или сърдито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“Четете” по лицето на интервюиращия и съобразявайте отговорите си с това – все пак не сте в условията на вакуум!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4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Ако давате ТВ интервю, винаги внимавайте за следните нещ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ведението си, ако още сте пред камер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сядане, ставан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ачина на обличане – без ярки цветове, карета, раета и п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ледайте интервюиращия, не камерата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6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Поведение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тправяне на посланието: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емете инициатив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ърво отправяйте най-силн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държайте това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аряй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Обогатявайте го с анекдоти, крилати фрази и др.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Говорете кратко и ясн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Развийте собствена техника на изказване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68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1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Контролирайте неща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ърво отговорете на въпроса, колкото може по-кратк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рехвърлете се към ключовото си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речете ключовото посла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ете го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вторете ключовото послание!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0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228240" y="6667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Използвайте ОПП технологията: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О</a:t>
            </a: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Отговор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рехвърляне</a:t>
            </a:r>
            <a:br>
              <a:rPr sz="2000"/>
            </a:br>
            <a:r>
              <a:rPr b="1" lang="ru-RU" sz="2000" spc="-1" strike="noStrike">
                <a:solidFill>
                  <a:srgbClr val="958d85"/>
                </a:solidFill>
                <a:latin typeface="Verdana"/>
              </a:rPr>
              <a:t>П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Послание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2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  <p:pic>
        <p:nvPicPr>
          <p:cNvPr id="1273" name="Picture 2" descr=""/>
          <p:cNvPicPr/>
          <p:nvPr/>
        </p:nvPicPr>
        <p:blipFill>
          <a:blip r:embed="rId1"/>
          <a:stretch/>
        </p:blipFill>
        <p:spPr>
          <a:xfrm>
            <a:off x="696960" y="2209680"/>
            <a:ext cx="7748640" cy="4181760"/>
          </a:xfrm>
          <a:prstGeom prst="rect">
            <a:avLst/>
          </a:prstGeom>
          <a:ln w="28440">
            <a:solidFill>
              <a:srgbClr val="005da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имери за “прехвърляне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Бих искал/а да подчерта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Най-важното е да се разбер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има нещо за отбелязване, то е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да добавя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Ако погледнем по-нататък, ще видим, че…”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“И нека не забравяме ,че…”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5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Техника на интервюто / 4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Уверете се, че знаете за какво ще ви интервюират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Имайте подготвени ключови послания / изявления и бъдете готови да ги повтаряте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Говорете по възможно най-разбираем и лек начин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П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o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мнете, че:</a:t>
            </a:r>
            <a:br>
              <a:rPr sz="2000"/>
            </a:br>
            <a:br>
              <a:rPr sz="2000"/>
            </a:b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Интервюто не е приятелски разговор!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Няма нещо, наречено “неофициално изявление”!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Verdana"/>
              </a:rPr>
              <a:t>Основни правила на интервюто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Комуникирайте посланието с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ставяйте ударение на ключови момен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клонявайте от тема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кратк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Дръжте се като говорител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Бъдете търпеливи и прятелски настро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Подкрепяйте се с факт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ползвайте шеговити изрази, крилати мисли (с мярка!)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Уважавайте крайния срок на журналиста или времетраенето на интервюто, когато то е за електронна медиа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7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914400" y="365724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привлечете внимани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оказвайте раздразнени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е отбранявайте по който и да е аспект от вашата работа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никакви “неофициални” изявления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тговаряйте на въпроса с въпрос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обсъждайте неща, за които не сте упълномощен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правете предполoжения; кажете “не зная”, ако не знаете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Не си правете шеги;</a:t>
            </a: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- Избягвайте отговори от типа “без коментар”!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1" name="Rectangle 2"/>
          <p:cNvSpPr/>
          <p:nvPr/>
        </p:nvSpPr>
        <p:spPr>
          <a:xfrm>
            <a:off x="14400" y="0"/>
            <a:ext cx="9144000" cy="990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Какво да не правите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ловко мълчание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се изнервяйте. Не казвайте повече от планираното, за да запълните тишината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двеждащи въпрос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Приемете или отхвърлете въпроса и се върнете към ключовото си послание / 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Неприемливи алтернативи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Отхвърляйт</a:t>
            </a: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e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 всяка предложена алтернатива на отговор, като се връщате на ключовото си послание/изявление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Коментар по изказванията на други хор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коментирайте нечии други изказвания. Придържайте се към посланието с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3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Хипотетични предполож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реагирайте на хипотетични предположения. Придържайте се към посланието с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отвърждаване на чужда позиц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повтаряйте изказвания на журналиста. Променете изказването така че да служи на вашите цел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Прекъсвания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Искайте възможност да довършите отговора си. Бъдете колкото се може по-кратки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Бързо задавани въпроси 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Спрете потока от въпроси с жест. Отговорете на онзи въпрос, който е най-добър за вас.</a:t>
            </a: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5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2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228240" y="144792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Грешни предположения и заключения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Веднага посочете грешката и я подчертайте пред интервюиращия.</a:t>
            </a:r>
            <a:br>
              <a:rPr sz="2000"/>
            </a:b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Удар из засада</a:t>
            </a:r>
            <a:br>
              <a:rPr sz="2000"/>
            </a:br>
            <a:r>
              <a:rPr b="1" lang="bg-BG" sz="2000" spc="-1" strike="noStrike">
                <a:solidFill>
                  <a:srgbClr val="958d85"/>
                </a:solidFill>
                <a:latin typeface="Verdana"/>
              </a:rPr>
              <a:t>- </a:t>
            </a:r>
            <a:r>
              <a:rPr b="0" lang="bg-BG" sz="2000" spc="-1" strike="noStrike">
                <a:solidFill>
                  <a:srgbClr val="958d85"/>
                </a:solidFill>
                <a:latin typeface="Verdana"/>
              </a:rPr>
              <a:t>Не е необходимо да се съгласявате да давате интервю, ако времето и мястото не ви устройват. Предложете време и място, подходящи за вас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7" name="Rectangle 2"/>
          <p:cNvSpPr/>
          <p:nvPr/>
        </p:nvSpPr>
        <p:spPr>
          <a:xfrm>
            <a:off x="14400" y="0"/>
            <a:ext cx="9144000" cy="106668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трудняващи ситуации по време на интервю / 3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18600" y="11430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958d85"/>
                </a:solidFill>
                <a:latin typeface="Verdana"/>
              </a:rPr>
              <a:t>• 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оброволчеството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Взаимодействието между хората в развитите и развиващите се страни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стни проекти или проекти на Фондацият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Международните обучения на Rotary и обмен на участници по програмите (Младежки обмен, Ротари за световен мир, Стипендианти-посланици или Групово обучение за членове)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Истории за хора, на които службата е помогнала;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•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958d85"/>
                </a:solidFill>
                <a:latin typeface="Verdana"/>
              </a:rPr>
              <a:t>Дейности в полза на ПолиоПлюс, особено в полио-ендемичните райони.</a:t>
            </a:r>
            <a:endParaRPr b="0" lang="en-US" sz="20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89" name="Rectangle 2"/>
          <p:cNvSpPr/>
          <p:nvPr/>
        </p:nvSpPr>
        <p:spPr>
          <a:xfrm>
            <a:off x="14400" y="0"/>
            <a:ext cx="9144000" cy="6667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Да се върнем на историите на Ротари! </a:t>
            </a:r>
            <a:endParaRPr b="0" lang="en-US" sz="32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3"/>
          <p:cNvSpPr/>
          <p:nvPr/>
        </p:nvSpPr>
        <p:spPr>
          <a:xfrm>
            <a:off x="0" y="1371600"/>
            <a:ext cx="9144000" cy="373392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Verdana"/>
              </a:rPr>
              <a:t>Добрата история е добра история, написана и на салфетка! 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>
            <a:off x="0" y="990720"/>
            <a:ext cx="9144000" cy="487656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ace: </a:t>
            </a: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Първият лек шок на осъзнаване идва през лятото на 1994 г. с една ръчно написана бележка, оставена върху бюрото на Рой Андерсън. 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ffffff"/>
                </a:solidFill>
                <a:latin typeface="Verdana"/>
              </a:rPr>
              <a:t>Бележката е от дистрибутор на компанията на западния бряг и гласи: "Някои клиенти се интересуват какво прави "Интерфейс" за околната среда. Какво да им отговарям?"</a:t>
            </a: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Rectangle 3"/>
          <p:cNvSpPr/>
          <p:nvPr/>
        </p:nvSpPr>
        <p:spPr>
          <a:xfrm>
            <a:off x="0" y="990720"/>
            <a:ext cx="9144000" cy="4572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Verdana"/>
              </a:rPr>
              <a:t>Дори да ми е останал един-единствен долар, бих го инвестирал в </a:t>
            </a: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PR!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400" spc="-1" strike="noStrike">
                <a:solidFill>
                  <a:srgbClr val="ffffff"/>
                </a:solidFill>
                <a:latin typeface="Verdana"/>
              </a:rPr>
              <a:t>Бил Гейтс </a:t>
            </a:r>
            <a:endParaRPr b="0" lang="en-US" sz="4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3"/>
          <p:cNvSpPr/>
          <p:nvPr/>
        </p:nvSpPr>
        <p:spPr>
          <a:xfrm>
            <a:off x="0" y="3352680"/>
            <a:ext cx="9144000" cy="1143000"/>
          </a:xfrm>
          <a:prstGeom prst="rect">
            <a:avLst/>
          </a:prstGeom>
          <a:solidFill>
            <a:srgbClr val="01b4e7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5400" spc="-1" strike="noStrike">
                <a:solidFill>
                  <a:srgbClr val="ffffff"/>
                </a:solidFill>
                <a:latin typeface="Verdana"/>
              </a:rPr>
              <a:t>3 000 метра</a:t>
            </a:r>
            <a:endParaRPr b="0" lang="en-US" sz="54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3" name="Picture 7" descr="P0228413K_big"/>
          <p:cNvPicPr/>
          <p:nvPr/>
        </p:nvPicPr>
        <p:blipFill>
          <a:blip r:embed="rId1"/>
          <a:stretch/>
        </p:blipFill>
        <p:spPr>
          <a:xfrm>
            <a:off x="838080" y="762120"/>
            <a:ext cx="7543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Picture 25" descr="P0228299N_big"/>
          <p:cNvPicPr/>
          <p:nvPr/>
        </p:nvPicPr>
        <p:blipFill>
          <a:blip r:embed="rId1"/>
          <a:stretch/>
        </p:blipFill>
        <p:spPr>
          <a:xfrm>
            <a:off x="685800" y="615960"/>
            <a:ext cx="784872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5" name="Picture 5" descr="P0203126N_big"/>
          <p:cNvPicPr/>
          <p:nvPr/>
        </p:nvPicPr>
        <p:blipFill>
          <a:blip r:embed="rId1"/>
          <a:stretch/>
        </p:blipFill>
        <p:spPr>
          <a:xfrm>
            <a:off x="380880" y="584280"/>
            <a:ext cx="8153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bg-BG" sz="4400" spc="-1" strike="noStrike">
                <a:solidFill>
                  <a:srgbClr val="958d85"/>
                </a:solidFill>
                <a:latin typeface="Verdana"/>
              </a:rPr>
              <a:t>Какво не иска един журналист?</a:t>
            </a:r>
            <a:endParaRPr b="0" lang="en-US" sz="4400" spc="-1" strike="noStrike">
              <a:solidFill>
                <a:srgbClr val="958d85"/>
              </a:solidFill>
              <a:latin typeface="Calibri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subTitle"/>
          </p:nvPr>
        </p:nvSpPr>
        <p:spPr>
          <a:xfrm>
            <a:off x="914400" y="37335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bg-BG" sz="4800" spc="-1" strike="noStrike">
                <a:solidFill>
                  <a:srgbClr val="958d85"/>
                </a:solidFill>
                <a:latin typeface="Verdana"/>
              </a:rPr>
              <a:t>Да му губите времето! </a:t>
            </a: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958d85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8" name="Picture 3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4108680" cy="5438520"/>
          </a:xfrm>
          <a:prstGeom prst="rect">
            <a:avLst/>
          </a:prstGeom>
          <a:ln w="0">
            <a:noFill/>
          </a:ln>
        </p:spPr>
      </p:pic>
      <p:sp>
        <p:nvSpPr>
          <p:cNvPr id="1239" name="Rectangle 3"/>
          <p:cNvSpPr/>
          <p:nvPr/>
        </p:nvSpPr>
        <p:spPr>
          <a:xfrm>
            <a:off x="4417920" y="436680"/>
            <a:ext cx="4572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не е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 Google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ашият враг са корпоративн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овините за продукт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Нискомасленият журнализъм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716a62"/>
                </a:solidFill>
                <a:latin typeface="Verdana"/>
              </a:rPr>
              <a:t>Безкофеиновите новини</a:t>
            </a:r>
            <a:r>
              <a:rPr b="1" lang="en-US" sz="2400" spc="-1" strike="noStrike">
                <a:solidFill>
                  <a:srgbClr val="716a62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58d85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16a62"/>
                </a:solidFill>
                <a:latin typeface="Verdana"/>
              </a:rPr>
              <a:t>Вицепрезидентът на Innovation Хуан Антонио Гинер</a:t>
            </a:r>
            <a:endParaRPr b="0" lang="en-US" sz="1600" spc="-1" strike="noStrike">
              <a:solidFill>
                <a:srgbClr val="958d8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0:11:30Z</dcterms:created>
  <dc:creator>RI WS-06</dc:creator>
  <dc:description/>
  <dc:language>en-US</dc:language>
  <cp:lastModifiedBy>UP</cp:lastModifiedBy>
  <cp:lastPrinted>2013-04-11T19:55:04Z</cp:lastPrinted>
  <dcterms:modified xsi:type="dcterms:W3CDTF">2015-10-09T16:18:53Z</dcterms:modified>
  <cp:revision>717</cp:revision>
  <dc:subject/>
  <dc:title>PowerPoint Presentation</dc:title>
</cp:coreProperties>
</file>